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9ADA-30CD-487A-AF15-89E93C940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36214F3D-A6D0-4CB1-BA6A-BF618ABBD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11B5D616-3800-4394-A6B7-6B93E1025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BD45-92B9-43AF-A58D-315AD7630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C11-4D58-4A0A-9B89-4E75A7D1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5F26-13C8-4151-84E5-F1371327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3EF-A3FC-41F3-B78B-F9FD402C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42E-04A9-475D-B7F4-167C2371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EF1-736E-4B82-91A4-6363AED6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282-6CF5-4D33-A23E-8F9E5C64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D1F-D67D-4970-8D9E-C35D4B21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1FA4-CF5C-4F31-86D9-EAEEDB86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B9B-2CD4-41BD-9748-82F73A48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1C01-E8D8-4743-88E3-F02665DC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5B0-5F5E-4019-8DDD-DE5A376B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B13-18C9-4A6C-9548-3F320B77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D771-767D-468D-B266-9C78EA3755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BQLDpcOcH_4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6400800" cy="190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40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1042920" y="112536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995640" y="522936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Ана Барјактарев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900000" y="3068640"/>
            <a:ext cx="7488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ЕМУЛЗ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LSIONES</a:t>
            </a:r>
            <a:r>
              <a:rPr b="1" i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бор уљане ф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е може имати лековито деловање или служи као носач липосолубилних лек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зависи од: жељених физичких карактеристика емулзије, степена мешања водене и уљане фазе, растворљивости лека у уљаној фази и жељене конзистенције финалне емулз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љану фазу у емулзијама за спољашњу примен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чине: течни парафин, бензил-бензоат и различита силиконска уљ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јчешће коришћена уља у оралним емулзиј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цинусово уље и течни парафин – лаксатив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ље уље – извор витамина А и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шидово уље – дијететски супле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љана фаза у парентералним емулзиј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i.m. примену користе се пречишћена минерална у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i.v. примену користе се пречишћена биљна уља (мешавина дуголанчаних триглицерида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539640" y="1125360"/>
            <a:ext cx="806472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а уља су подложна оксидацији, могу да ужегну па је обавезан додатак антиоксида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мулзије типа У/В садр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онзерванс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оксидант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илхидроксианизол и бутилхидрокситолуол (0,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-токофер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л естри галне киселине (0,001 – 0,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ксиетанол, бензојева киселна, ест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хидроксибензојеве киселине – у оралним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олошким емулз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емулз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395280" y="184464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се сматрају нестабилним системима, због слобод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површинске енерги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граници између 2 течне фазе које се не мешај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4000" y="3141720"/>
            <a:ext cx="849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ана и водена фаза теже да се раздвоје јер се на тај начин смањује слободна међуфазна енергија а систем постаје термодинамички стабилни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Е ЕМУЛЗИЈЕ стабилизују се  додатком емулгато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е емулзије (са аспекта примене) – карактеристике се не мењају у предвиђеном року употребе (код фарм. и козм. препарата од 2 до 5 годи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30080" y="1052640"/>
            <a:ext cx="812808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емулгатора зависи од типа емулзије, клиничке примене емулзије, потенцијалне токсичности, доступности и цене емулг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чешће користи комбинација емулгатора него поједина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емулгат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 активне материје (ПАМ) – сурфактанти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з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ни емулгатори и хидрофилни колои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ни емулгатори (фино уситњене чвр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PA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фин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8036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 активна материја је емулгатор који снижава површински напон у фази у којој је растворен и показује позитивну адсорпцију на међуповршини између уља и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снижавања међуповршинског напона емулгатор мора и да облаже капи унутрашње фазе у облику филма како би се спречило спајање (коалесценција) ка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 су амфифилне молекуле, које се састоје од хидрофилног (поларна глава) и липофилног - хидрофобног (неполарни реп) 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ontent Placeholder 12" descr=""/>
          <p:cNvPicPr/>
          <p:nvPr/>
        </p:nvPicPr>
        <p:blipFill>
          <a:blip r:embed="rId1"/>
          <a:srcRect l="0" t="19373" r="47" b="0"/>
          <a:stretch/>
        </p:blipFill>
        <p:spPr>
          <a:xfrm>
            <a:off x="250920" y="1052640"/>
            <a:ext cx="864216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38320" y="1267920"/>
            <a:ext cx="505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крофтово прав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50920" y="2852640"/>
            <a:ext cx="856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а фаза емулзије биће она у којој је емулгатор растворљивиј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 растворљивији у води – емулзија типа У/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 растворљивији у уљу – емулзија типа В/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298440" y="2492280"/>
            <a:ext cx="8377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Б број изражава равнотежно стање у молекулу ПАМ у односу на удео и врсту поларних и неполарних гру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Б систем користи скалу од 0 до 20 (Грифин, 1949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е ПА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 &lt;  ХЛБ &l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илне ПА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&lt; ХЛБ &lt;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 са ХЛБ 3 – 6 дају емулзије типа В/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 са ХЛБ 8 – 18 дају емулзије типа У/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39640" y="1197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Б вредност емулгат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ydrophile – Lypophile Bal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826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 ПАМ према функ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8560" y="2133360"/>
            <a:ext cx="70102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3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пенећа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У емулгатор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– 9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ваш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1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 емулг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– 1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убилиз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539640" y="5445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Б вредност ПАМ се може наћи у литератури или одредити експериментал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32000" y="999720"/>
            <a:ext cx="31687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50920" y="1413000"/>
            <a:ext cx="8569080" cy="64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су хетерогени системи, дисперзије две течне фазе које се не мешају (уље и вода), при чему је једна фаза у виду капи диспергована у другој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која је расподељена у виду капи назива се диспергована или дисперзна фаза, унутрашња (интерна) фаза или дисконтинуир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у којој је извршено дисперговање назива се дисперзно средство, спољашња (екстерна) или континуирана ф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су термодинамички нестабилни сис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Б за неке ПАМ које се користе у фармациј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2781000"/>
            <a:ext cx="829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bitan trioleat (Span 85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inska kiseli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bitan monooleat (Spa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bitan monostearat (Spa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bitan monolaurat (Spa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sorbat 60 (polioksietilen sorbitanmonostearat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sorbat 80 (polioksietilen sorbitanmonooleat Twee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sorbat 20 (polioksietilen sorbitanmonolaurat Twee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jum olea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емулгатора типа П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 су у 4 хемијске груп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оте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е 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еном раствору дисосују при чему је за емулгујуће деловање одговоран анјо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ни сапу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еара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леа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ицинолат) -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лсулфати – естри сумпорне кис.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урилсулфа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цетилсулфат)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 сапун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алмитат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еарат)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 сапуни (триетаноламин (ТЕА) –стеара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мер – синтетички карбоксивинил анјонски полимер, з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лзије за интерну и спољашњу употребу; обично се користи у комбинацији са нејонским емулгатор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ске 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еном раствору дисосују при чему је за емулгујуће деловање одговоран катјо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као дезинфекциона средства, поседују изражено антимикробно деловање, користе се као конзерван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ртернерна амонијумова једи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алконијум хлорид, цетримид, цетилпиридинијум хлорид  - добра дезинфекциона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отерне 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28708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једињења са  катјонским и анјонским груп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 (желатин, казеин, жуманце јајета) – дају емулзије типа У/В за ор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цитин биљног порекла (соја) и лецитин животињског порекла (жуманце јајета) – дају емулзије типа У/В, ређе В/У. ХЛБ лецитина је о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5-6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и лецитин – емулгатор за инјекције типа У/В емулзија и емулзије масти за и.в. исхр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ске 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исосују у воденом раствору. Стабилне пр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и алкохоли (лаурил-, цетил- и стеарил алкохол, стероли/холестерол – дају емулзије типа В/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 масних киселина и полихидроксилних алкохола-гликола, глицерола, сорбитол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 емулзије типа В/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цијални естри масних киселина и полиоксиетилованог сорбитана (ПЕГ-ПОЕ- ПОЛИСОРБАТИ-ТWЕ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60,65,80,81 – дају емулзије типа У/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цијални естри масних киселина и сорбитана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60,80,85 – дају емулзије типа В/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оксиетиловани естри масних киселина (МАКРОГОЛНИ естри  - дају емулзије типа У/В.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mophor S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оксиетиловани етри масних алкохола  (МАКРОГОЛНИ етри  - дају У/В или В/У емулзије у зависности од ХЛБ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mophor 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i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ог тензида (цетостеарол, глицерил моностеарат) и хидрофил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јонског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нзид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лаурилсулфат) у односу 9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филног тензида (цетостеарол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рофилног тензи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цетостеарилсулфат у односу 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ју израду течних емулзија и получврстих стабилних У/В кремова са високим садржајем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иским концентрацијама образују ЛАМЕЛАРНЕ течне кристале са великом способношћу бубрењ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ни емулг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IV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ан је мешани емулгато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 emulsificans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ујући восак)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састоји од 90% цетостеарола и око 10%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урилсулфа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израду течних У/В емулзија (линимент бензил-бензоата) и у већим концентрацијама У/В кремова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piens emulsificans aquosum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ни емулгат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типа емулзије који гради мешани емулг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остеарол - В/У емулгатор (90%) ХЛБ &lt; 10 (липофил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а-лаурилсулфат - У/В емулгатор (10%) ХЛБ = 40 (хидрофила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Na-лаурилсулфата jе много мања од количине цетостеарола али његова изразита хидрофилн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ЛБ = 40) диктира настајање емулзије типа У/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емулзије коју гради мешани емулгатор зависи од емулгатора који има већу ХЛБ вреднос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9280" y="228708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ују анјонске емулгујуће восков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остеарил алкохол емулгујући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тип А)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јмање 90% цетостеарил алкохола и најмање 7%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цетостеарил сулфа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остеарил алкохол емулгујући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тип Б)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јмање 90% цетостеарола и најмање 7%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- лаурилсулф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ни емулгатори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72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(капљица) унутрашње фазе </a:t>
            </a:r>
            <a:br>
              <a:rPr sz="28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03280" y="1963800"/>
            <a:ext cx="8136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2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но, величина капи дисперзне фазе у емулзијама износи 1 – 100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емулзије за оралну примену -  дијаметар капи унутрашње фазе 1 - 20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за парентералну примену 200-500 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 од 1 μм) да би се избегла емболиј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а и водена фаза имају различит индекс преламања видљиве светлости – емулзије течности беле бој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9280" y="1988640"/>
            <a:ext cx="8772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ски мешани емулгатори (нејонски емулгујући воскови): комбинација липофилних и хидрофилних – нејонских тензи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остеари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G 400 stear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                  +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остеари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хо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een 6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+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ни емулгатори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ск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ни емулгат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ни емулгатори се адсорбују на граничној површини две фазе У/В емулз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потреб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me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4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лимер акрилне киселине)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PM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е и козметичке емулзије типа У/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нцентрацијама 0,2 - 0,5% образују структуиране међуфазне филмове који спречавају коалесценцију уљаних капи, а незнатно повећавају вискозитет спољашње – водене фа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и полиоксиетилен-полиоксипропилен кополимер се користи самостално или у комбинацији са лецитином за стабилизацију парентералних инјек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и емулгат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природног порекла које имају својства ПАМ могу бити биљног и животињског порек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ог порекл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лисахариди (трагаканта, агар, пект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ињског порекл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 (желат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ол; фосфолипиди, односно лецитин – из жуманцета јаја (употребљава се за израду парентералних У/В емулзија масти (за парентералну исхра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ни емулгатори (фино уситњене чврсте супстанц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о паковане, фино уситњене, чврсте, нерастворљиве честице образују стабилан филм на граничној површини између уљане и водене фа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а фаза је она која има највећи афинитет према чврстим честиц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чврсте честице буду сферног облика, имају способност квашења масном и воденом фазом да би се лоцирале између две течности и изградиле механичку баријеру за коалесцен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ентонит (У/В ем. за споља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и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идроксид (У/В оралне ем.); колоидни силицијум-диоксид (Аеросил); титан-диоксид и цинк-оксид као физички блокатори у емулзијама за заштиту од су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творни емулг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ontent Placeholder 3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4286160" cy="241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6411960" y="4508640"/>
            <a:ext cx="20113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и физичке нестабилности емулзиј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42004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ерзибилне фазе (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ујући филм одржава своје особине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ација (удруживање капи унутрашње фазе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локул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могућа редисперз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лојавањ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ming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иментација - дисперговане капи воде седиментирају на дно код емулзија В/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тација - дисерговане капи уља испливавају на површину код емулзија У/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еверзибилне фазе (није могуће редисперговати емулзију):</a:t>
            </a:r>
            <a:r>
              <a:rPr b="1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лесценција (иреверзибилно спајање капи унутрашње фаз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рзија (спољашња фаза постаје унутрашња – измена физичких карактеристик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l-SI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77920" y="9399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матски приказ нестабилности емул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611280" y="2017800"/>
            <a:ext cx="7557480" cy="4766400"/>
            <a:chOff x="611280" y="2017800"/>
            <a:chExt cx="7557480" cy="4766400"/>
          </a:xfrm>
        </p:grpSpPr>
        <p:sp>
          <p:nvSpPr>
            <p:cNvPr id="159" name="Text Box 4"/>
            <p:cNvSpPr/>
            <p:nvPr/>
          </p:nvSpPr>
          <p:spPr>
            <a:xfrm>
              <a:off x="3328560" y="5994360"/>
              <a:ext cx="178308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"/>
            <p:cNvSpPr/>
            <p:nvPr/>
          </p:nvSpPr>
          <p:spPr>
            <a:xfrm>
              <a:off x="3074040" y="5798520"/>
              <a:ext cx="2547360" cy="97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3074040" y="2017800"/>
              <a:ext cx="2377080" cy="97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5451480" y="3256200"/>
              <a:ext cx="2377440" cy="97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51480" y="4560120"/>
              <a:ext cx="2462760" cy="97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696240" y="3321360"/>
              <a:ext cx="2462400" cy="97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696240" y="4625280"/>
              <a:ext cx="2462400" cy="912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3074040" y="2669400"/>
              <a:ext cx="263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омогена емулз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611280" y="3973320"/>
              <a:ext cx="263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локулац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696240" y="5211720"/>
              <a:ext cx="263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четна коалесценц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5451480" y="5211720"/>
              <a:ext cx="263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четна коалесценц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5536440" y="3908160"/>
              <a:ext cx="263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лојавање</a:t>
              </a:r>
              <a:r>
                <a:rPr b="0" lang="sl-SI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“creaming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3158640" y="6385320"/>
              <a:ext cx="263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двајање фа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7"/>
            <p:cNvSpPr/>
            <p:nvPr/>
          </p:nvSpPr>
          <p:spPr>
            <a:xfrm>
              <a:off x="3074040" y="5798520"/>
              <a:ext cx="2547360" cy="390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8"/>
            <p:cNvSpPr/>
            <p:nvPr/>
          </p:nvSpPr>
          <p:spPr>
            <a:xfrm>
              <a:off x="3328560" y="208260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9"/>
            <p:cNvSpPr/>
            <p:nvPr/>
          </p:nvSpPr>
          <p:spPr>
            <a:xfrm>
              <a:off x="3413160" y="260424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0"/>
            <p:cNvSpPr/>
            <p:nvPr/>
          </p:nvSpPr>
          <p:spPr>
            <a:xfrm>
              <a:off x="4262760" y="24087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1"/>
            <p:cNvSpPr/>
            <p:nvPr/>
          </p:nvSpPr>
          <p:spPr>
            <a:xfrm>
              <a:off x="4092840" y="21477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2"/>
            <p:cNvSpPr/>
            <p:nvPr/>
          </p:nvSpPr>
          <p:spPr>
            <a:xfrm>
              <a:off x="4007880" y="26042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3"/>
            <p:cNvSpPr/>
            <p:nvPr/>
          </p:nvSpPr>
          <p:spPr>
            <a:xfrm>
              <a:off x="4687200" y="253908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24"/>
            <p:cNvSpPr/>
            <p:nvPr/>
          </p:nvSpPr>
          <p:spPr>
            <a:xfrm>
              <a:off x="4432320" y="21477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25"/>
            <p:cNvSpPr/>
            <p:nvPr/>
          </p:nvSpPr>
          <p:spPr>
            <a:xfrm>
              <a:off x="5112000" y="247392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26"/>
            <p:cNvSpPr/>
            <p:nvPr/>
          </p:nvSpPr>
          <p:spPr>
            <a:xfrm>
              <a:off x="5027040" y="21477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7"/>
            <p:cNvSpPr/>
            <p:nvPr/>
          </p:nvSpPr>
          <p:spPr>
            <a:xfrm>
              <a:off x="3413160" y="24087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8"/>
            <p:cNvSpPr/>
            <p:nvPr/>
          </p:nvSpPr>
          <p:spPr>
            <a:xfrm>
              <a:off x="3753000" y="208260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9"/>
            <p:cNvSpPr/>
            <p:nvPr/>
          </p:nvSpPr>
          <p:spPr>
            <a:xfrm>
              <a:off x="4007880" y="234360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0"/>
            <p:cNvSpPr/>
            <p:nvPr/>
          </p:nvSpPr>
          <p:spPr>
            <a:xfrm>
              <a:off x="4347720" y="26042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1"/>
            <p:cNvSpPr/>
            <p:nvPr/>
          </p:nvSpPr>
          <p:spPr>
            <a:xfrm>
              <a:off x="4687200" y="22780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2"/>
            <p:cNvSpPr/>
            <p:nvPr/>
          </p:nvSpPr>
          <p:spPr>
            <a:xfrm>
              <a:off x="3668040" y="234360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3"/>
            <p:cNvSpPr/>
            <p:nvPr/>
          </p:nvSpPr>
          <p:spPr>
            <a:xfrm>
              <a:off x="3668040" y="253908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34"/>
            <p:cNvSpPr/>
            <p:nvPr/>
          </p:nvSpPr>
          <p:spPr>
            <a:xfrm>
              <a:off x="3498480" y="221328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35"/>
            <p:cNvSpPr/>
            <p:nvPr/>
          </p:nvSpPr>
          <p:spPr>
            <a:xfrm>
              <a:off x="4857120" y="24087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36"/>
            <p:cNvSpPr/>
            <p:nvPr/>
          </p:nvSpPr>
          <p:spPr>
            <a:xfrm>
              <a:off x="4687200" y="208260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37"/>
            <p:cNvSpPr/>
            <p:nvPr/>
          </p:nvSpPr>
          <p:spPr>
            <a:xfrm>
              <a:off x="3243600" y="22780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8"/>
            <p:cNvSpPr/>
            <p:nvPr/>
          </p:nvSpPr>
          <p:spPr>
            <a:xfrm>
              <a:off x="4517280" y="24087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39"/>
            <p:cNvSpPr/>
            <p:nvPr/>
          </p:nvSpPr>
          <p:spPr>
            <a:xfrm>
              <a:off x="5196600" y="22780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40"/>
            <p:cNvSpPr/>
            <p:nvPr/>
          </p:nvSpPr>
          <p:spPr>
            <a:xfrm>
              <a:off x="3158640" y="247392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41"/>
            <p:cNvSpPr/>
            <p:nvPr/>
          </p:nvSpPr>
          <p:spPr>
            <a:xfrm>
              <a:off x="5451480" y="3321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42"/>
            <p:cNvSpPr/>
            <p:nvPr/>
          </p:nvSpPr>
          <p:spPr>
            <a:xfrm>
              <a:off x="562140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43"/>
            <p:cNvSpPr/>
            <p:nvPr/>
          </p:nvSpPr>
          <p:spPr>
            <a:xfrm>
              <a:off x="579096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44"/>
            <p:cNvSpPr/>
            <p:nvPr/>
          </p:nvSpPr>
          <p:spPr>
            <a:xfrm>
              <a:off x="5960880" y="3321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45"/>
            <p:cNvSpPr/>
            <p:nvPr/>
          </p:nvSpPr>
          <p:spPr>
            <a:xfrm>
              <a:off x="613080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6"/>
            <p:cNvSpPr/>
            <p:nvPr/>
          </p:nvSpPr>
          <p:spPr>
            <a:xfrm>
              <a:off x="630072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7"/>
            <p:cNvSpPr/>
            <p:nvPr/>
          </p:nvSpPr>
          <p:spPr>
            <a:xfrm>
              <a:off x="6470280" y="3321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8"/>
            <p:cNvSpPr/>
            <p:nvPr/>
          </p:nvSpPr>
          <p:spPr>
            <a:xfrm>
              <a:off x="664056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9"/>
            <p:cNvSpPr/>
            <p:nvPr/>
          </p:nvSpPr>
          <p:spPr>
            <a:xfrm>
              <a:off x="681012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50"/>
            <p:cNvSpPr/>
            <p:nvPr/>
          </p:nvSpPr>
          <p:spPr>
            <a:xfrm>
              <a:off x="6979680" y="3321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51"/>
            <p:cNvSpPr/>
            <p:nvPr/>
          </p:nvSpPr>
          <p:spPr>
            <a:xfrm>
              <a:off x="714996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52"/>
            <p:cNvSpPr/>
            <p:nvPr/>
          </p:nvSpPr>
          <p:spPr>
            <a:xfrm>
              <a:off x="731952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53"/>
            <p:cNvSpPr/>
            <p:nvPr/>
          </p:nvSpPr>
          <p:spPr>
            <a:xfrm>
              <a:off x="7489440" y="3321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54"/>
            <p:cNvSpPr/>
            <p:nvPr/>
          </p:nvSpPr>
          <p:spPr>
            <a:xfrm>
              <a:off x="7659360" y="3321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55"/>
            <p:cNvSpPr/>
            <p:nvPr/>
          </p:nvSpPr>
          <p:spPr>
            <a:xfrm>
              <a:off x="5451480" y="34516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56"/>
            <p:cNvSpPr/>
            <p:nvPr/>
          </p:nvSpPr>
          <p:spPr>
            <a:xfrm>
              <a:off x="562140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7"/>
            <p:cNvSpPr/>
            <p:nvPr/>
          </p:nvSpPr>
          <p:spPr>
            <a:xfrm>
              <a:off x="579096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8"/>
            <p:cNvSpPr/>
            <p:nvPr/>
          </p:nvSpPr>
          <p:spPr>
            <a:xfrm>
              <a:off x="5960880" y="34516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9"/>
            <p:cNvSpPr/>
            <p:nvPr/>
          </p:nvSpPr>
          <p:spPr>
            <a:xfrm>
              <a:off x="613080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60"/>
            <p:cNvSpPr/>
            <p:nvPr/>
          </p:nvSpPr>
          <p:spPr>
            <a:xfrm>
              <a:off x="630072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61"/>
            <p:cNvSpPr/>
            <p:nvPr/>
          </p:nvSpPr>
          <p:spPr>
            <a:xfrm>
              <a:off x="6470280" y="34516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62"/>
            <p:cNvSpPr/>
            <p:nvPr/>
          </p:nvSpPr>
          <p:spPr>
            <a:xfrm>
              <a:off x="664056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63"/>
            <p:cNvSpPr/>
            <p:nvPr/>
          </p:nvSpPr>
          <p:spPr>
            <a:xfrm>
              <a:off x="681012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64"/>
            <p:cNvSpPr/>
            <p:nvPr/>
          </p:nvSpPr>
          <p:spPr>
            <a:xfrm>
              <a:off x="6979680" y="34516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65"/>
            <p:cNvSpPr/>
            <p:nvPr/>
          </p:nvSpPr>
          <p:spPr>
            <a:xfrm>
              <a:off x="714996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66"/>
            <p:cNvSpPr/>
            <p:nvPr/>
          </p:nvSpPr>
          <p:spPr>
            <a:xfrm>
              <a:off x="731952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67"/>
            <p:cNvSpPr/>
            <p:nvPr/>
          </p:nvSpPr>
          <p:spPr>
            <a:xfrm>
              <a:off x="7489440" y="34516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68"/>
            <p:cNvSpPr/>
            <p:nvPr/>
          </p:nvSpPr>
          <p:spPr>
            <a:xfrm>
              <a:off x="765936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9"/>
            <p:cNvSpPr/>
            <p:nvPr/>
          </p:nvSpPr>
          <p:spPr>
            <a:xfrm>
              <a:off x="5451480" y="3582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70"/>
            <p:cNvSpPr/>
            <p:nvPr/>
          </p:nvSpPr>
          <p:spPr>
            <a:xfrm>
              <a:off x="5621400" y="3582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71"/>
            <p:cNvSpPr/>
            <p:nvPr/>
          </p:nvSpPr>
          <p:spPr>
            <a:xfrm>
              <a:off x="6130800" y="3582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2"/>
            <p:cNvSpPr/>
            <p:nvPr/>
          </p:nvSpPr>
          <p:spPr>
            <a:xfrm>
              <a:off x="6300720" y="3582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73"/>
            <p:cNvSpPr/>
            <p:nvPr/>
          </p:nvSpPr>
          <p:spPr>
            <a:xfrm>
              <a:off x="6470280" y="3582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74"/>
            <p:cNvSpPr/>
            <p:nvPr/>
          </p:nvSpPr>
          <p:spPr>
            <a:xfrm>
              <a:off x="6979680" y="3582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75"/>
            <p:cNvSpPr/>
            <p:nvPr/>
          </p:nvSpPr>
          <p:spPr>
            <a:xfrm>
              <a:off x="7149960" y="3582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76"/>
            <p:cNvSpPr/>
            <p:nvPr/>
          </p:nvSpPr>
          <p:spPr>
            <a:xfrm>
              <a:off x="7319520" y="358236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77"/>
            <p:cNvSpPr/>
            <p:nvPr/>
          </p:nvSpPr>
          <p:spPr>
            <a:xfrm>
              <a:off x="7489440" y="3582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78"/>
            <p:cNvSpPr/>
            <p:nvPr/>
          </p:nvSpPr>
          <p:spPr>
            <a:xfrm>
              <a:off x="696240" y="338652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79"/>
            <p:cNvSpPr/>
            <p:nvPr/>
          </p:nvSpPr>
          <p:spPr>
            <a:xfrm>
              <a:off x="1120680" y="345168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80"/>
            <p:cNvSpPr/>
            <p:nvPr/>
          </p:nvSpPr>
          <p:spPr>
            <a:xfrm>
              <a:off x="1120680" y="371268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81"/>
            <p:cNvSpPr/>
            <p:nvPr/>
          </p:nvSpPr>
          <p:spPr>
            <a:xfrm>
              <a:off x="1120680" y="35823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82"/>
            <p:cNvSpPr/>
            <p:nvPr/>
          </p:nvSpPr>
          <p:spPr>
            <a:xfrm>
              <a:off x="1290600" y="35168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83"/>
            <p:cNvSpPr/>
            <p:nvPr/>
          </p:nvSpPr>
          <p:spPr>
            <a:xfrm>
              <a:off x="1290600" y="371268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84"/>
            <p:cNvSpPr/>
            <p:nvPr/>
          </p:nvSpPr>
          <p:spPr>
            <a:xfrm>
              <a:off x="1205640" y="384300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85"/>
            <p:cNvSpPr/>
            <p:nvPr/>
          </p:nvSpPr>
          <p:spPr>
            <a:xfrm>
              <a:off x="865800" y="351684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86"/>
            <p:cNvSpPr/>
            <p:nvPr/>
          </p:nvSpPr>
          <p:spPr>
            <a:xfrm>
              <a:off x="1630080" y="364716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87"/>
            <p:cNvSpPr/>
            <p:nvPr/>
          </p:nvSpPr>
          <p:spPr>
            <a:xfrm>
              <a:off x="2564280" y="384300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88"/>
            <p:cNvSpPr/>
            <p:nvPr/>
          </p:nvSpPr>
          <p:spPr>
            <a:xfrm>
              <a:off x="1375200" y="39081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9"/>
            <p:cNvSpPr/>
            <p:nvPr/>
          </p:nvSpPr>
          <p:spPr>
            <a:xfrm>
              <a:off x="2394360" y="351684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90"/>
            <p:cNvSpPr/>
            <p:nvPr/>
          </p:nvSpPr>
          <p:spPr>
            <a:xfrm>
              <a:off x="1969920" y="364716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91"/>
            <p:cNvSpPr/>
            <p:nvPr/>
          </p:nvSpPr>
          <p:spPr>
            <a:xfrm>
              <a:off x="1884960" y="351684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92"/>
            <p:cNvSpPr/>
            <p:nvPr/>
          </p:nvSpPr>
          <p:spPr>
            <a:xfrm>
              <a:off x="2054880" y="35168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93"/>
            <p:cNvSpPr/>
            <p:nvPr/>
          </p:nvSpPr>
          <p:spPr>
            <a:xfrm>
              <a:off x="2139480" y="364716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94"/>
            <p:cNvSpPr/>
            <p:nvPr/>
          </p:nvSpPr>
          <p:spPr>
            <a:xfrm>
              <a:off x="781200" y="37778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95"/>
            <p:cNvSpPr/>
            <p:nvPr/>
          </p:nvSpPr>
          <p:spPr>
            <a:xfrm>
              <a:off x="1545480" y="345168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96"/>
            <p:cNvSpPr/>
            <p:nvPr/>
          </p:nvSpPr>
          <p:spPr>
            <a:xfrm>
              <a:off x="1715040" y="37778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97"/>
            <p:cNvSpPr/>
            <p:nvPr/>
          </p:nvSpPr>
          <p:spPr>
            <a:xfrm>
              <a:off x="1884960" y="390816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98"/>
            <p:cNvSpPr/>
            <p:nvPr/>
          </p:nvSpPr>
          <p:spPr>
            <a:xfrm>
              <a:off x="1800360" y="364716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9"/>
            <p:cNvSpPr/>
            <p:nvPr/>
          </p:nvSpPr>
          <p:spPr>
            <a:xfrm>
              <a:off x="2734200" y="35168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00"/>
            <p:cNvSpPr/>
            <p:nvPr/>
          </p:nvSpPr>
          <p:spPr>
            <a:xfrm>
              <a:off x="950760" y="475560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01"/>
            <p:cNvSpPr/>
            <p:nvPr/>
          </p:nvSpPr>
          <p:spPr>
            <a:xfrm>
              <a:off x="1120680" y="488592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02"/>
            <p:cNvSpPr/>
            <p:nvPr/>
          </p:nvSpPr>
          <p:spPr>
            <a:xfrm>
              <a:off x="1290600" y="501624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03"/>
            <p:cNvSpPr/>
            <p:nvPr/>
          </p:nvSpPr>
          <p:spPr>
            <a:xfrm>
              <a:off x="2649240" y="475560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04"/>
            <p:cNvSpPr/>
            <p:nvPr/>
          </p:nvSpPr>
          <p:spPr>
            <a:xfrm>
              <a:off x="1630080" y="475560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05"/>
            <p:cNvSpPr/>
            <p:nvPr/>
          </p:nvSpPr>
          <p:spPr>
            <a:xfrm>
              <a:off x="1884960" y="501624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06"/>
            <p:cNvSpPr/>
            <p:nvPr/>
          </p:nvSpPr>
          <p:spPr>
            <a:xfrm>
              <a:off x="1969920" y="482076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07"/>
            <p:cNvSpPr/>
            <p:nvPr/>
          </p:nvSpPr>
          <p:spPr>
            <a:xfrm>
              <a:off x="2309760" y="469044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08"/>
            <p:cNvSpPr/>
            <p:nvPr/>
          </p:nvSpPr>
          <p:spPr>
            <a:xfrm>
              <a:off x="1545480" y="495144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9"/>
            <p:cNvSpPr/>
            <p:nvPr/>
          </p:nvSpPr>
          <p:spPr>
            <a:xfrm>
              <a:off x="2734200" y="501624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10"/>
            <p:cNvSpPr/>
            <p:nvPr/>
          </p:nvSpPr>
          <p:spPr>
            <a:xfrm>
              <a:off x="865800" y="501624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11"/>
            <p:cNvSpPr/>
            <p:nvPr/>
          </p:nvSpPr>
          <p:spPr>
            <a:xfrm>
              <a:off x="2139480" y="4885920"/>
              <a:ext cx="509400" cy="390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12"/>
            <p:cNvSpPr/>
            <p:nvPr/>
          </p:nvSpPr>
          <p:spPr>
            <a:xfrm>
              <a:off x="1205640" y="4625280"/>
              <a:ext cx="424440" cy="3261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13"/>
            <p:cNvSpPr/>
            <p:nvPr/>
          </p:nvSpPr>
          <p:spPr>
            <a:xfrm>
              <a:off x="5790960" y="46904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14"/>
            <p:cNvSpPr/>
            <p:nvPr/>
          </p:nvSpPr>
          <p:spPr>
            <a:xfrm>
              <a:off x="5960880" y="4820760"/>
              <a:ext cx="16992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5"/>
            <p:cNvSpPr/>
            <p:nvPr/>
          </p:nvSpPr>
          <p:spPr>
            <a:xfrm>
              <a:off x="6130800" y="495144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16"/>
            <p:cNvSpPr/>
            <p:nvPr/>
          </p:nvSpPr>
          <p:spPr>
            <a:xfrm>
              <a:off x="7404480" y="4820760"/>
              <a:ext cx="169560" cy="1303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17"/>
            <p:cNvSpPr/>
            <p:nvPr/>
          </p:nvSpPr>
          <p:spPr>
            <a:xfrm>
              <a:off x="6470280" y="469044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18"/>
            <p:cNvSpPr/>
            <p:nvPr/>
          </p:nvSpPr>
          <p:spPr>
            <a:xfrm>
              <a:off x="6725160" y="4951440"/>
              <a:ext cx="16992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9"/>
            <p:cNvSpPr/>
            <p:nvPr/>
          </p:nvSpPr>
          <p:spPr>
            <a:xfrm>
              <a:off x="6810120" y="4755600"/>
              <a:ext cx="169560" cy="129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20"/>
            <p:cNvSpPr/>
            <p:nvPr/>
          </p:nvSpPr>
          <p:spPr>
            <a:xfrm>
              <a:off x="7149960" y="462528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21"/>
            <p:cNvSpPr/>
            <p:nvPr/>
          </p:nvSpPr>
          <p:spPr>
            <a:xfrm>
              <a:off x="6385680" y="488592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22"/>
            <p:cNvSpPr/>
            <p:nvPr/>
          </p:nvSpPr>
          <p:spPr>
            <a:xfrm>
              <a:off x="7574400" y="495144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23"/>
            <p:cNvSpPr/>
            <p:nvPr/>
          </p:nvSpPr>
          <p:spPr>
            <a:xfrm>
              <a:off x="5706000" y="4951440"/>
              <a:ext cx="254520" cy="1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24"/>
            <p:cNvSpPr/>
            <p:nvPr/>
          </p:nvSpPr>
          <p:spPr>
            <a:xfrm>
              <a:off x="6979680" y="4885920"/>
              <a:ext cx="509400" cy="3909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25"/>
            <p:cNvSpPr/>
            <p:nvPr/>
          </p:nvSpPr>
          <p:spPr>
            <a:xfrm>
              <a:off x="6045840" y="4560120"/>
              <a:ext cx="424440" cy="3258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26"/>
            <p:cNvSpPr/>
            <p:nvPr/>
          </p:nvSpPr>
          <p:spPr>
            <a:xfrm>
              <a:off x="1800360" y="5668200"/>
              <a:ext cx="933840" cy="45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7"/>
            <p:cNvSpPr/>
            <p:nvPr/>
          </p:nvSpPr>
          <p:spPr>
            <a:xfrm flipH="1">
              <a:off x="5960880" y="5668200"/>
              <a:ext cx="1018800" cy="45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28"/>
            <p:cNvSpPr/>
            <p:nvPr/>
          </p:nvSpPr>
          <p:spPr>
            <a:xfrm>
              <a:off x="1969920" y="436464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29"/>
            <p:cNvSpPr/>
            <p:nvPr/>
          </p:nvSpPr>
          <p:spPr>
            <a:xfrm>
              <a:off x="6640560" y="429912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30"/>
            <p:cNvSpPr/>
            <p:nvPr/>
          </p:nvSpPr>
          <p:spPr>
            <a:xfrm>
              <a:off x="3583440" y="3582360"/>
              <a:ext cx="169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1"/>
            <p:cNvSpPr/>
            <p:nvPr/>
          </p:nvSpPr>
          <p:spPr>
            <a:xfrm flipH="1">
              <a:off x="3583080" y="3908160"/>
              <a:ext cx="1698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32"/>
            <p:cNvSpPr/>
            <p:nvPr/>
          </p:nvSpPr>
          <p:spPr>
            <a:xfrm flipH="1">
              <a:off x="2224800" y="2669400"/>
              <a:ext cx="678960" cy="52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33"/>
            <p:cNvSpPr/>
            <p:nvPr/>
          </p:nvSpPr>
          <p:spPr>
            <a:xfrm>
              <a:off x="5621400" y="2604240"/>
              <a:ext cx="678960" cy="52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4"/>
            <p:cNvSpPr/>
            <p:nvPr/>
          </p:nvSpPr>
          <p:spPr>
            <a:xfrm flipV="1">
              <a:off x="1630080" y="2343240"/>
              <a:ext cx="1018800" cy="78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5"/>
            <p:cNvSpPr/>
            <p:nvPr/>
          </p:nvSpPr>
          <p:spPr>
            <a:xfrm flipH="1" flipV="1">
              <a:off x="5876280" y="2343240"/>
              <a:ext cx="848880" cy="65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01560" y="2057040"/>
            <a:ext cx="785664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суспендовања (“континентална метода”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ео емулгатора се суспендује у 2 дела фазе у којој се не раствара (то је унутрашња фаз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тим се додаје 1,5 део спољашње фазе и настаје “примарна” емулз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ој емулзији се постепено, уз мешање, додаје остатак спољашње фа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метода се примењује за израду емулзија У/В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користи нпр. арапска гума или трагакан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емулгатор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ЕМУЛЗ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растварања (“енглеска метода”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улгатор се раствор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пољашњој фази, по потреби уз умерено загре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о, уз мешање додаје се унутрашња ф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ти рачуна да не дође до уклапања ва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она (променљива) метод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гатору се додаје одређена количина унутрашње па спољашње фазе, да би се створило “језгро” емул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 се наизменично додаје део унутрашње па део спољашње фазе док се не емулгују, уз стално меш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емул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24000" y="1916280"/>
            <a:ext cx="83516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4240" indent="177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ставне емулзије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двофазни системи који се састоје из уљане и водене фазе и емулгатора (не представља посебну фазу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4240" indent="177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основна типа течних емулзија су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 и В/У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4240" indent="177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емулзије зависи од удела водене и масне фазе, врсте емулгатора и начина израде емулз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4240" indent="177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4240" indent="177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струке емулзије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ода диспергована у уљу а затим формирана емулзија се даље диспергује у другој воденој фази – формира се емулзија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У/В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4240" indent="177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уље диспергује у води а затим се формирана емулзија даље диспергује у другој уљаној фази – формира се емулзија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/В/У.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и су и хидрофилни и липофилни емулгатор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4240" indent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за процену стабилности емул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: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ђање рока употр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и стреса: гравитациони стрес и термални стр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тациони стрес – центрифугирање на 3000 обртаја/мин два пута по 15 мин. или одједном 30 мин. Након центрифугирања не би требало да дође до раздвајања фаза или одвајања дела унутрашње фа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ални стрес – резултат примене повишене температуре од 40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одређеном временском интервалу помножен фактором 4 даје приближан рок трајања за производ који се чува на собној температури. Примењује се и ниска температура око 4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амрзавање - 5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емулз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1494000"/>
            <a:ext cx="88567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и изглед емулзије – хомогене, равномерно обојене, мућкањем се редиспергуј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дређивање рН вредности (рН-метром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дређивање величине капи дисперговане фазе –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скопск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спитивање стабилности емулзиј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ифугирањ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гањем повишеној температур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микробиолошког квалитета (захтев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пеје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Jug. V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.1.4):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е - категорија 2, з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у употребу категорија 3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Одређивање реолошких параметара: вискозитет и тип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цања (зависност напона смицања од брзине смицања</a:t>
            </a:r>
            <a:r>
              <a:rPr b="0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емулз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ипа емулзиј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оћу неколико метод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ивање емулзије са водом (ем. У/В се меша са водом а В/У ће се у виду капи разлити по површини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 филтер папира (капањем на филтер папир: широка мрља У/В емулзија; мала мрља која се не шири В/У емулз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кобалт папиром (натопље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Cl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о обојен: код ем.У/В ружичаста боја, а код ем. В/У тамно плав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ње ем. липосолубилном (Судан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хидросолубилном (метиленско плаво) бојом и посматрање обојења под микроско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 електричне проводљивости, кондуктометријски (пров. &lt; 1µS/cm 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/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&gt; 50 µ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, а ако је између 1 – 50, тада је мешо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7280" y="907560"/>
            <a:ext cx="371484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емул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58920" y="4581360"/>
          <a:ext cx="7157880" cy="2054520"/>
        </p:xfrm>
        <a:graphic>
          <a:graphicData uri="http://schemas.openxmlformats.org/drawingml/2006/table">
            <a:tbl>
              <a:tblPr/>
              <a:tblGrid>
                <a:gridCol w="2386080"/>
                <a:gridCol w="2386080"/>
                <a:gridCol w="2385720"/>
              </a:tblGrid>
              <a:tr h="559800"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Класична емулз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Микроемулз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Величина ка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-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nm –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Изгле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ечно бе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арент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222268"/>
                          </a:solidFill>
                          <a:latin typeface="Times New Roman"/>
                        </a:rPr>
                        <a:t>Стабил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динамски нестабил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динамски стабил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26"/>
          <p:cNvSpPr/>
          <p:nvPr/>
        </p:nvSpPr>
        <p:spPr>
          <a:xfrm>
            <a:off x="468360" y="1628640"/>
            <a:ext cx="8217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арентни колоидни раствори који се састоје од водене фазе, липофилне фазе и одређене амфифилне компоне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ски стабилне, оптички бистре дисперзије, али нису емулзиони системи, настају спонтано без утрошка енерг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ска стабилност је одговорна за спонтано формирање микроемулзија, без употребе енерг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оване су великим количинама емулгатора (до 30%) уз додатак коемулгатор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 типа У/В и В/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95280" y="1982880"/>
            <a:ext cx="482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кроемулз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љана фаза (5 – 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мулгатор (10 – 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емулгатор (2,5 – 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чите активне компон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а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емул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арент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ска с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ставност израде (спонтано формир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инкорпорирања хидро- и липофилних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стерилизације топлотним метод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разблаживања водом или уљ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експедовања у облику аерос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емул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79280" y="2287080"/>
            <a:ext cx="850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офармацеутска при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а примена (садрже лецитин као емулга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а при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рална примен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dim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уљани раствор: при мешању са биолошким течностима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it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а У/В емулзију – величина капи око 3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већава се активна површина тешко растворног циклоспорина а тиме и биорасполож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емул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Наноемул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50440" y="1628640"/>
            <a:ext cx="83422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нанодисперзн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– не могу се формирати спонт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 капи уља које су окружене мономолекуларним филмом (уљано језгро), најчешће од фосфолипида (лецитин) и воде као спољашње фазе. Средњи дијаметар капи је од 50 – 10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јчешће 100 – 5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је потребан велики утрошак енергије и посебни уређаји који раде као хомогенизатори под високим притис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о са липозомима, масним (липидним) наночестицама припадају тзв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исперзним системима, познатим и као субмикронске, миниемул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Наноемулз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и носачи за контролисано ослобађање лековитих, посебно липофилних супстанци за парентералну, оралну и трансдермалну прим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е емулзије масти: 10 – 20% сојиног уља, 0,5 – 2% лецитина из жуманцета јајета или соје (емулгатор) и вода за инјек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29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BQLDpcOcH_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лековитих облика типа емулз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77600"/>
            <a:ext cx="777240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5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IV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називо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LSIONES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само емулзије з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алну примену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 У/В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 7.0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општ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емулзија већ се у оквиру других монографија наводи да ти лековити облици могу бити и препарати типа емулзиј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чни препарати за оралну примен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чни препарати за примену на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парати за у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парати за но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армацеутски препарати под притиск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рентерални препарати (инјекције и инфузиј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ктални преп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емул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конзистенцији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деле на течне (емулзије) и получврсте (кремов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емулзије типа У/В за спољашњу употребу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ју се и емулзиони лосиони или у козметици млеко за кож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начину примене</a:t>
            </a: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er os)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ерно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, В/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скључиво У/В)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/У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 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јекци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стабилности (садржају емулгато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е емулз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један или више емулгатора, стабилан сист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и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удо емулзије – не садрже емулгатор, а стабилност  се краткотрајно одржава високим вискозитетом спољашње фазе (нестабилни систе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1360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58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е емулзије тип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ристе се за доставу лековитих уља у третману констипације (минерална уља, рицинусово уље) или као дијететски суплементни (рибље уљ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тип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садрже биљна уља користе се за доставу лекова и витамина који се слабо растварају у во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е интравенске емулзије тип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/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користе за парентералну исхрану као извор калорија и есенцијалних масних киселина. Оваква емулзија може да буде и носач лековите супстанце са ограниченом растворљивошћу у води (нпр. диазепам, витамин К, доцетаксе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8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971640" y="981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емул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мулзије у које је инкорпорирано контрастно средство користе се за рендгенско снимање, томографију и магнетну резона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олошке емулзије, намењене за доставу лека на/у кожу могу бити и типа У/В и В/У – лосиони, линимента, кремов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ција емул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уљане фазе, емулгатора и типа емулзије зависе од пута апликације и клиничке примене емул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треба узети у обзир потенцијалну токсичност ексципијенаса, могуће инкомпатибилије и це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бор типа ем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емулзије значајно смањује број расположивих емулг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емулзија типа У/В користе се хидрофилни тј. У/В емулгато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емулзија типа В/У користе се липофилни тј. В/У емулгато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0-26T07:43:27Z</dcterms:modified>
  <cp:revision>213</cp:revision>
  <dc:subject/>
  <dc:title>Slide 1</dc:title>
</cp:coreProperties>
</file>